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2F8937-C1A3-4B8F-AF83-0EA373860A5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5E7927D-F3FE-4132-AF65-6D83B0DFCBD4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a team member is replaced, the new team member gets the incomplete tasks from the old team member’s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new team member re-estimates tasks based on personal historical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ider adding a buffer for a learning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team member enters their own schedule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ider impact on existing team rol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a team member is assigned to other work temporarily, or their resource allocation changes, update that team member’s schedule plan.  If possible, load bala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44109CF-366E-4ECC-AE28-1EAB39398896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lan updates makes everybody nervou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nagers anticipate schedule slippa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leaders question their ability to make commit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members start to doubt their effectivenes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must manage the plan dynamically and make every effort to hold to their commitmen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competently made, the original plan should have been based on historical size and task-hour dat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ithout external changes, the overall plan should be accurat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justments may be needed for normal estimating fluctuations at the detailed leve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ynamic planning is intended to preserve and improve the team’s schedul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xternal changes may result in overall plan changes as we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A4A3F99-C1FE-4B16-A77B-EC0FB4C862A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100800" rIns="100800" tIns="50400" bIns="504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ndividuals can make updates to their plans without affecting other team member plans or the overall team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hen a team member must make changes to their plan and it affects other team member plans, the situation is an imbala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leader must work with the team to dynamically balance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ach individual needs to look at their actual data and refine their detailed plans where necessar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lanning manager produces the consolidated team plan, based on revised detailed pl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team follows the dynamic load-balancing procedure described in launch meeting 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ver how do you add an assembly? task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283FC11-EFC7-4E36-A3F4-BACB626E632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3A5C9A0-B228-4878-9D86-351E99E78B2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27CD718-6885-4DF1-8D54-BCBC115EDA5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162EC07-5C54-4280-92F7-D53B2E85E50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he team is not “managing the numbers” and making the data say what it is supposed to s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asks are being completed in sequence and dependencies are not being ignor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ke sure that the team is adhering to their quality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D7810CF-CC55-438A-9C3C-0F887FFCE85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FBEBD91-BC2E-41A2-9A87-A49F97F3A8E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D644122-AF4B-4133-B9F1-6171461F266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15336C36-049A-4171-816B-7AE635D58EB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AB54673-1A1A-464A-A547-B2E5690B80D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decision to conduct a relaunch should be based on team need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workload is imbalanc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plan is not guiding their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members are added to the tea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are external chang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is a significant and unrecoverable deviation from the original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ing the plan takes time, and plan changes generally make it harder to track progress.  Therefo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pdate individual detailed plans fir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f needed, update the overall plan as a last reso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duct relaunches only if 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806A6F4-E201-46FA-89B5-F9A54770542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FBA14D57-9B24-4B7C-AEDA-3D2D811541E3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0BC7E03-BC58-4DF4-9ECE-6CC9C4DDE7B9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AF09E6B-D3C0-44CB-833B-F7133D8538BA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data are collected, individuals see how long tasks actually tak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the product evolves, individuals learn more about how they need to develop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rganizational structures ch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assignments and staffing profiles chang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am dynamics evolve, including relationships and behavior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may finish tasks ahead of or behind th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may be done out of sequen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ill be overlooked task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re will be occasional trends in poor estimat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408DCE36-52D1-482C-9AB6-C0BCC79C377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2B60CB91-6DE4-4149-978F-1A77C42CE292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Maintaining the Baseline Pla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rocesse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teams starts doing the work, they may find that the processes they are using need to chan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cess changes may be needed i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in the wrong or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not granular enoug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steps are too granula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needs additional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needs fewer ste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is not producing high quality produ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reasons process changes may be need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7404120" y="216000"/>
            <a:ext cx="139536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eam Composition Chang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projects execu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are added or removed from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may be assigned to other work temporaril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 resource allocation to this project may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hould these changes be reflected in a team’s plan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319560" y="4708440"/>
            <a:ext cx="169200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Communicating Commitment Change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ever changes are made to the plan, the team must make sure the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plan chan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erify they understand why the changes were ma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impact to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change to the plan impacts commitmen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sider alterna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ffer choices and recommendations to stakehold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7" name="Picture 7" descr="\\ns01\install\Office\ClipMedia\disk2\FILES\PFILES\MSOFFICE\MEDIA\CNTCD1\ClipArt3\j0233251.wmf"/>
          <p:cNvPicPr/>
          <p:nvPr/>
        </p:nvPicPr>
        <p:blipFill>
          <a:blip r:embed="rId1"/>
          <a:stretch/>
        </p:blipFill>
        <p:spPr>
          <a:xfrm>
            <a:off x="3521160" y="4789440"/>
            <a:ext cx="17064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ynamic Workload Balanc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lways fluctuation.  To keep from getting badly imbalanced, the team rebalances the workload as need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 following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ine each individual’s progress and projected completion of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ermine who is ahead and beh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lance the work where necessar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basic plan was a good one, this is likely to keep the team on the original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balancing the Workloa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Rectangle 2051"/>
          <p:cNvSpPr/>
          <p:nvPr/>
        </p:nvSpPr>
        <p:spPr>
          <a:xfrm>
            <a:off x="1971720" y="148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32" name="Object 2048" descr=""/>
          <p:cNvPicPr/>
          <p:nvPr/>
        </p:nvPicPr>
        <p:blipFill>
          <a:blip r:embed="rId1"/>
          <a:stretch/>
        </p:blipFill>
        <p:spPr>
          <a:xfrm>
            <a:off x="466560" y="1660680"/>
            <a:ext cx="7982280" cy="45907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059"/>
          <p:cNvSpPr/>
          <p:nvPr/>
        </p:nvSpPr>
        <p:spPr>
          <a:xfrm>
            <a:off x="1271520" y="5754600"/>
            <a:ext cx="13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week 8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 progress can adequately be described using two indicators:  task hours and earned valu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nds in actual versus planned task hours show whether current trends in expended time are above or below th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rends in earned versus planned value show whether current trends in earned value are above or below th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ased on trends in hours and earned value, the team can determine whether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ject is on trac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roject will finish as planned, assuming that the current pace is maintain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uses of plan deviation can be identified and adjustments to the project can be made to address these caus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8192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 Example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828720" y="1569960"/>
            <a:ext cx="7902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799128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erpreting Team Data Example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29" descr=""/>
          <p:cNvPicPr/>
          <p:nvPr/>
        </p:nvPicPr>
        <p:blipFill>
          <a:blip r:embed="rId2"/>
          <a:stretch/>
        </p:blipFill>
        <p:spPr>
          <a:xfrm>
            <a:off x="628560" y="1609560"/>
            <a:ext cx="7891560" cy="47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ossible Causes of Plan Devi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17360" y="1568520"/>
            <a:ext cx="757548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estimates used to produce the plan may be inaccurate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not based on historical data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sed poor size estimate and/or productivity rate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may not be getting the task time as planned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frequent interruption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unplanned 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may not have adequate or appropriate staff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eam members may be doing superficial work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Individuals may be doing the work wrong because they misunderstand the 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work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he team may be struggling with teamwork issues.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king the Schedul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earned value is on or above planned value, the team is making their schedul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long as the actual hours expended are close to the plan, the team is right on trac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ngs to consi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ctual hours are not as planned, the team has an estimating problem that they need to address before they make anothe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actual hours are as planned or lower, the team may be doing a superficial job on important quality activ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341280" y="2876400"/>
            <a:ext cx="326880" cy="287640"/>
          </a:xfrm>
          <a:prstGeom prst="rightArrow">
            <a:avLst>
              <a:gd name="adj1" fmla="val 50000"/>
              <a:gd name="adj2" fmla="val 28411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alling Behind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17360" y="1486080"/>
            <a:ext cx="7637400" cy="47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When earned value is below planned value, the team is at risk of not making their schedule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e team seems to have underestimated the job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e team may not be getting their planned task hour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Things to consider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Figure out how to get back on schedule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Work with the team to do a major plan reassessment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Don’t blow the whistle prematurely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Review the situation with management as soon as you have more detail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Compare earned value status with actual hour status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If the team was fully staffed and met the planned task hours, would earned value be above or below plan?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Use the relative comparison between earned value and actual hours as a way to explain plan deviations and secure support to get back on track.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700" spc="-1" strike="noStrike">
                <a:solidFill>
                  <a:srgbClr val="39536b"/>
                </a:solidFill>
                <a:latin typeface="Arial"/>
              </a:rPr>
              <a:t>Recognize that early in a project, there can be wide fluctuations in actual versus planned measures. </a:t>
            </a:r>
            <a:endParaRPr b="0" lang="en-US" sz="17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en Things Look Too Gre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ork with the team to make sure that the situation is real and not just a temporary vari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ome suggestions for looking deeper into the stat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he team is not “managing the numbers” and making the data say what it is supposed to sa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asks are being completed in sequence and dependencies are not being ignore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at the team is adhering to their quality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pproach management with the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he team to accelerate the schedul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o add functionality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o they want to reassign staff to other proje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pdating the Overall Pla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fter dynamic changes are made to individual plans, the team determines if the new consolidated plan is consistent with the original baseline pla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re tasks in the current phase still consisten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re tasks for future phases consistent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ave the individual estimates affected the team’s commitments or scheduled dat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 team is not reasonably close to maintaining the baseline plan, the team needs to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terpret their data, including actual versus planned hours and earned versus planned value 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ke adjustments to their work and their plan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ossibly involve management and renegotiate commitment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ossibly relaunch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tailed plans are accurate only for brief periods of time.  Therefore, it is essential to periodically rebalance plan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uous planning help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to be more effici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s to better manage their worklo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alysis of data gives insight into team progress and suggests potential overall plan corrections.  Look 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ersus plan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versus planned task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maintaining their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 with maintaining a baseline plan and apply hints for handling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ynamic workload balanc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erpreting team plan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ing the overal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 Dynam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you can’t plan accurately, plan ofte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- Watts Humphrey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Detailed plans are accurate only for brief periods of tim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team members work, they learn more about the job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work among individuals becomes unbalanc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rganizations and teams are dynamic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 plans become less accurate, they are less useful in guiding the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eams need detailed plans to make realistic commitments and to coordinate and track their wor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nsequently, teams must dynamically maintain their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hy do Plans Change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s need to be continuously updated to reflect reality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is better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parameters change (effort hours, productivity)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cess is better understoo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ew team members join the team, or team members leave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become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reasons that cause plans to chang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385040" y="142920"/>
            <a:ext cx="1494000" cy="10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etter Understanding of a Project</a:t>
            </a:r>
            <a:br>
              <a:rPr sz="3600"/>
            </a:b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team better understand a project, they may fi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smaller than anticipa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rger than anticipat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missed tasks that are necessary to complete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re is a skill set they need before they can complete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roject requires a commercial off the shelf piece of softw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should they handle each of these situation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618000" y="5446800"/>
            <a:ext cx="13143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quirement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keholders may request changes such 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new fea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earlier d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hanges in prior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ifferent order of comple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 unplanned demo or one-off rele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important to handle each of these in a rational mann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 they understand the reques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pond with the impact and the choices the stakeholder ha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ose impacts are accepted, they should update their plan to reflect the current realit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5" name="Picture 4" descr="\\ns01\install\Office\ClipMedia\disk2\FILES\PFILES\MSOFFICE\MEDIA\CNTCD1\ClipArt1\j0078702.wmf"/>
          <p:cNvPicPr/>
          <p:nvPr/>
        </p:nvPicPr>
        <p:blipFill>
          <a:blip r:embed="rId1"/>
          <a:stretch/>
        </p:blipFill>
        <p:spPr>
          <a:xfrm>
            <a:off x="7545240" y="147600"/>
            <a:ext cx="127008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Parameters Chang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a team makes its initial plan, they used some planning paramete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distribution amongst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roductiv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injection and removal rat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availabilit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eam or individuals discover these parameters were incorrect, it is important to re-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5332320" y="4443480"/>
            <a:ext cx="252576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5Z</dcterms:modified>
  <cp:revision>206</cp:revision>
  <dc:subject/>
  <dc:title>No Slide Title</dc:title>
</cp:coreProperties>
</file>